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7.jpeg" ContentType="image/jpeg"/>
  <Override PartName="/ppt/media/image30.wmf" ContentType="image/x-wmf"/>
  <Override PartName="/ppt/media/image10.png" ContentType="image/png"/>
  <Override PartName="/ppt/media/image35.jpeg" ContentType="image/jpeg"/>
  <Override PartName="/ppt/media/image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21.jpeg" ContentType="image/jpeg"/>
  <Override PartName="/ppt/media/image32.wmf" ContentType="image/x-wmf"/>
  <Override PartName="/ppt/media/image6.wmf" ContentType="image/x-wmf"/>
  <Override PartName="/ppt/media/image11.png" ContentType="image/png"/>
  <Override PartName="/ppt/media/image31.jpeg" ContentType="image/jpeg"/>
  <Override PartName="/ppt/media/image2.png" ContentType="image/png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4FE-69EF-40C6-8CFF-3833B5EB2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F411-611E-4D79-AA23-37C41E01F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743B-1E70-42B2-B276-5571F6795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5F8-5074-4AF9-A701-0E1A9450A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59EB-42DA-4370-BEDD-FE43CDFA7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0865-1A87-426C-AF83-905E7D27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1E7-C16B-451E-873E-815447C4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03D9-364C-4FB1-93B8-AB80489B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C538-8341-408A-AFC5-F3DEFFDC9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0C5E-B38E-4713-954D-1B1E07E79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71D-1503-4000-B2DB-27FD2FD43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3E5-6767-4356-A6BC-2E7089BA7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EC14-8DF2-4909-991A-EAEAD6A23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56CA-936D-49C7-9D87-C4D15B7A2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035F-1D8F-4DAF-9001-F5A220076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283A-F459-4A41-9CBE-DB871D6E5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890F-5330-4D05-936E-9458C36C0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583-8DF5-480C-A10F-1F6BA9E6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C11-AF13-46E6-82D5-E5B49C11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008-D0C6-4BF2-AC6C-8D6746EC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305-CAAF-46BC-8175-7E723434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79BF-BA6C-431D-A470-04B3970F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FDB6-79B0-481C-8FCB-67937367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DDC0-19D4-429E-9B29-97F061C7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0ACD-0F9D-4C4C-B600-0A4E701B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8727-E15C-403E-B527-1328B67E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2E89-FD85-4516-8835-854F5523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2A4D-1A64-4C8B-9930-97E94C83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B88-D8FE-4FE9-9131-C64A4DC1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9F8E-482C-426B-9B7B-07CB5E3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5EAE-79C0-4407-BC16-29579DFD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490D-3F38-4D91-844D-A79FBF87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9C4C-DA95-44E3-B3D3-63821DE8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1BA2-D565-40D7-98EA-FADBD03A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290-D887-4A53-871A-6D9E8C61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E35-4285-4C4F-8796-6CBC6A71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E7B-A883-438E-B073-39696726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E6E-6FE8-412F-BEAF-B4C33E2E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DD5-110B-46CE-88A0-AE5FC63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BFB-AF68-46A4-9BB7-9D5C262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AF7-BCA2-475A-989B-F1996D3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EE69-41AA-471D-A2AE-BA3D33749C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4312-D50F-4D19-81A0-2DDDD4B449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nbc.msn.com/id/42569811/ns/us_news-life/t/yale-student-dies-chemistry-lab-accident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Lab Safety: Why It’s Really Cool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3048120" y="262908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 Safety Equi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85680"/>
            <a:ext cx="44956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ggested that you wear glasses and not contact l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ggles with vents vs. goggles without 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: Aprons and Glo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219480" y="2209680"/>
            <a:ext cx="2509920" cy="339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62120" cy="3343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457200" y="220968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 Safety Equi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Extinguis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Blanket: used for fires on hair or cl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 W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52600" cy="221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2905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quipment Usage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st of replacing glassware or equipment caused b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glig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uld be the responsibility of the stude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neglig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Chipped or cracked glassware shoul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Broken glassware should 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special glass disposa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f a piece of glassware gets broken, do 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clean it up by yourself. Notify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protective goggles and a lab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on whenever heating or pour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mix chemicals together unles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are told to do so (and then only in 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touch, smell, or taste an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471320" cy="19047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need to smell the odor of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, waft the fumes towar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ose with one hand.  Do 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your nose over the containe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our water into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d acid.  Acid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poured slowly into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 Follow the instructions of you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when disposing of al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s.  (Solid wastes should 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d in the s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 Wash your hands after handl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ing Biological Materi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any live or preserved specimens, be RESPECTFU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 caution when using sharp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ose of all biological materials as directed by the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y electrical cords where n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trip on them or ge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sure your hands and your la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a are dry before us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oke anything int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al outl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6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1627200" cy="22096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do We Talk about Lab Safet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msnbc.msn.com/id/42569811/ns/us_news-life/t/yale-student-dies-chemistry-lab-accident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burners and hotplates cool down befo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uching them. Test to see if they are coo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ough by bringing the back of your h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Use tongs and/or protective gloves to hand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 o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Never reach across an open flame or bur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 Tie back long hair and do not wear loo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.  Always point the top ends of test tubes that a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ng heated away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.  When heating a test tube, move it around slowl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he flame to 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diately flush wit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until burn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s and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sing directly on min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s will stop bleeding in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w minute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84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sh eyes immediate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plenty of water 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minutes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92420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Find out what substance w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ible and alert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sh with large quantities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bout Artic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ould have been done to prevent this acc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hould the university do in response to the accident to improve their lab safety practi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Listen to or read instructions careful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attempting to do 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 Wear proper protective gea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priate clo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Notify your teacher if any spills 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Object 5" descr=""/>
          <p:cNvPicPr/>
          <p:nvPr/>
        </p:nvPicPr>
        <p:blipFill>
          <a:blip r:embed="rId1"/>
          <a:stretch/>
        </p:blipFill>
        <p:spPr>
          <a:xfrm>
            <a:off x="5486400" y="4610160"/>
            <a:ext cx="2666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53341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handling chemicals, always wash your hands with soap and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lab work, keep your hand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way from your face and tie back your ha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981080" cy="1468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23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Know the location lab safe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 Keep your work area uncluttered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657600" y="4495680"/>
            <a:ext cx="2286000" cy="1602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ut anyth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mouth during a la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n up your lab are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conclusion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“horse around” 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practical jokes i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2548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havior in the Science Classro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should not touch equipment unless given proper instructions and permission by the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read your lab procedur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, drink, and gum are a N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e clu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274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ropriate Clot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open-toed sh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 Hair 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l up loose slee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rsey Material: will mel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5562720" y="3743280"/>
            <a:ext cx="1746000" cy="311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6553080" y="18288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Kathryn Emerson Ottolini</cp:lastModifiedBy>
  <dcterms:modified xsi:type="dcterms:W3CDTF">2012-09-06T15:37:11Z</dcterms:modified>
  <cp:revision>87</cp:revision>
  <dc:subject/>
  <dc:title>Lab Safety</dc:title>
</cp:coreProperties>
</file>